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315-A6C9-4AC3-80B9-956D54B2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3C2-E195-487F-8CAD-EC5BDF18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9D2A5-D34C-46CB-AC6C-328B7B89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3F282-F9DD-41CD-9308-17B8067F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BFC7B-365D-4017-86B5-3C18C75F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C9ECA-65DD-4697-9233-1AF76BD3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03DA8-AC64-4770-B814-B0C0DA2B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2C954-BE88-4864-B46B-7B65769F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96EEE-9949-4BF2-BC70-BBB68623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8AFB5-A290-40A2-A576-99C15414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D1930-4DA8-4492-940D-FD9F6B98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95821-62D0-468A-B2A0-EB986B3D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483-44CE-4C94-86D0-EF2A08CB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8F478-2F84-4935-8017-EDE9EE20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54336-F5D7-43ED-B1F0-040D961E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F082D-DA81-424B-806B-79409CC7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E221C-645B-494F-B6AD-55627986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EB762-AF3C-4810-8A04-48BD13F9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60E72-5056-4CF6-B109-DB8F1374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FA323-0EA7-43DA-AD6D-C30543AA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4D5AC-1575-491C-B99B-6DC82B15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2F49E-67BD-489A-A0C0-F8D53926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0FD91-EA9F-4037-9DA0-26635DBF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6C3-E849-4AEB-A760-AB24F874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933FC-8172-4375-960C-82EF1712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74D36-27F8-465A-84D1-A863F71F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DBF85-A474-4ADB-8512-66BEC39F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C3266-AD7B-40D3-98DC-F7C2E95A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7855F-D2C7-45FE-AE0A-F0125C3F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1EF1C-5B14-4F62-A11F-A615DB27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DE002-3FD8-4295-9A22-BCA14097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36ADB-808A-4D83-A07A-34EF3A1B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31F15-BF26-4E77-8C02-C03F706F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5980C-2E9B-4875-9F80-C05DAD83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7CF9-610E-4A2F-B3C8-C1FD23E5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44A88-B879-4335-8FFB-A29B0132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24E61-E34A-4937-A837-378784EB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2DD16-6E37-4796-A303-75585142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F00D0-7C6C-49B7-A6B2-24B189E2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DCC15-00F9-4D7C-ADFE-75E1D973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7D24E-803B-4516-A3C4-F7F945DC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26253-FA71-4A44-968C-B7926962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4C071-3189-4F2D-A28A-3CC52ED6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D131D-8D55-4EC2-81F6-053B3FD3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EDDD0-C168-48B6-9C54-2554B679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D60D-114B-49B6-8369-A9B3F076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79DE2-FC12-4075-B176-976D48A7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1723B-A9B3-4D92-A399-262E3500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02E9E-311D-4290-918D-EA9F9020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6086C-36DA-4F41-85F2-CE439BA4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9FBEE-4015-4A5D-AC8D-25735B07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95D9A-B40C-4E86-9A2A-23D684DB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F700F-E164-4F4C-A7B5-86D5DD14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5F2E9-C148-485A-BE85-12567640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9E666-AD0B-4E5A-AC8D-752CB163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D223E-31D4-4072-9E1A-F3CEF40F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88C4-19FC-4E99-B52F-B319CD39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1CA03-A57D-495A-819F-A5E73022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CC0BE-CAB1-4B70-B612-0C9984A8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39A17-51E5-48C2-85BF-090BDFE6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CCD70-6163-4E27-8876-54A9E487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9F422-5217-482C-BF1D-F5823BA2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B098C-2CB4-4CBA-8187-0476792B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AF0F20-AD52-471F-960D-C45D805D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C9CBD-1D04-496A-B885-D98A2136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FBA06-B8C5-4FA8-9D77-8A42EF3A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7C143-7C9F-4A4C-9D80-F21016DB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F8F5-F509-4CD7-8914-01E0FA9F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9BCA6B-D581-4B26-AFD9-F61122CD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C57AD-2ADF-441B-8F72-3301C1D7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0CB572-E056-490B-A844-B6E2866C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22B5C-D5B9-4542-BA8A-5D14DDF0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5692D-EE8F-4491-AE9B-0C09435D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741C0-4558-4CF7-BD71-223EC82B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42559-7F78-4BF8-85EA-B593361C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F2F3F-798D-4108-A68D-742E2F3F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C3235-029A-4F0F-B708-4C375481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CD3B89-5569-4B16-8F02-0520FD50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F7D9-7530-42A5-A7D8-44760F90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8D9E4-6B76-429A-8AFD-F7E20537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928605-C636-43BE-A213-850234F4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5FFD86-A456-4B6A-93AA-7E40D7CD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31F355-8613-4393-A844-5ED31ACC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EF447-07A6-447B-B579-41702FFD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0F9B8C-8BB4-4008-8544-C58097FF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AED347-68CD-4A43-B203-CB62F90F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5EFFC-B57B-45F2-8C35-D790A824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006379-594C-494F-93EF-25B24255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F377D-1621-478D-A14A-11AFCCCF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9BAE-AD04-474E-B65C-2409D648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12C30D-9388-41FB-A3AE-3DCB40F9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9AE0D-33F9-4833-84F1-C763252E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780C6-3914-4F15-9A77-0B5F5F5B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999152-F1BC-4B19-91BF-C8D97C0E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057267-813F-4A53-908B-721091D8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F9D09-0BC2-455E-8247-F62DA4AD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FB3DC2-74D0-4D5A-BB74-9E9028BD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7DC706-00D7-41E0-A1AE-0B3DF029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D677DC-3EEC-4418-BBBC-7304909B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3999DA-3E06-4D32-9830-F486E45C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390B-C6B8-4EA3-8738-4AD1483F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5A472B-4A7C-4E7E-B57C-C856D713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39A030-66E0-4EDD-B2F2-6FCE8470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13B14-8AF1-446E-9702-B09F10E0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B96C7B-07D4-4D0D-9138-20F85063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30FBE8-111D-4CBB-BCCE-36232B39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18FB31-166C-44DB-BD7F-CE695620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598ACB-1A53-4929-924A-E5FBEDC1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D86788-2A11-4FED-A6D5-ED0824DB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CEBE94-399C-4D70-8E20-4215577D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128CD-B5FD-45E7-8205-579EDB53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362-185D-44AD-944B-65C03D71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A04E-5CA9-4A54-8297-92338B17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FF8CD7-E185-47C7-BE62-B9BD678E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D9F63-BDAA-471E-B2D1-20BE4301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295D84-5C60-46AE-A340-74935650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5601C7-7655-4AB1-97FD-124EB05C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4A20EA-4668-426C-B75E-331AE22A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D164D1-9971-4475-9C7F-ABE7FD58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6809D7-5C86-4BB8-B21A-81A602BD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D748F8-8126-466E-BC7B-066E1348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C56054-F10F-438D-ADA7-AE4544D9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8561A-3C5F-45E2-BE87-07039FD4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50EB-1773-40FA-826B-1032681B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9A1D45-30EB-4765-8029-66581A6E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E6744A-CF9A-439B-9949-731C944D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37F22B-5D73-4C3B-A186-99596963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0E5DDF-3D50-4502-85DD-6E691ECB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BC7E6F-62CD-4938-8440-8F155A1F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CBAE0C-F3E1-4BC4-8E49-6767C02C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CD7E5B-6AE4-4B0E-BFAD-0830AFCB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8B5288-5A5B-4E49-86B5-B1F5B055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05099D-10FC-4D72-A171-F1AE09EE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966D1C-13C6-4232-A95A-E3B8AE9B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5BAD-7745-4435-A1B1-85E4D5E9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7C8D89-9704-47D5-B549-84048AF1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E37A95-6246-42DC-8D41-3EAF3DA0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C9640A-BA23-4A5A-A9C1-7AB6152D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1964D3-0367-4D78-BDF5-919F5027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7357ED-32B4-4E11-A6D2-B10B46B8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BDC264-AF34-4849-9105-83014766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786AD6-7FF6-4765-84E6-EE3D9D0C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02A69D-2596-4CD4-A684-373EC04B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08B488-89CC-47B5-ACA8-1F9412A0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A9820A-7811-4272-9462-775BB2E7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E159-E435-4FF3-9E33-07B8204B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C526AC-A67E-4C58-98B3-B6AF1215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C6500F-B03A-4705-BD20-5608A890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F2934F-2709-4979-9B2D-E4D510F3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E5B5D5-19CB-4D8E-B6C6-EF8DA9E0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0BF0A-98A7-49E2-9167-43C9CF71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5A686B-8527-4ABA-8897-96685460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172C76-0B11-4CCA-9BD0-6AA0110B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3A8B20-C0D4-4EEC-916E-36F20826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850538-B7FA-478A-8640-07726664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2C1521-55B6-4025-8FD1-6D72EDAA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9A96-7CB5-4D64-8113-F4A9CD9F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D39D38-1ED8-42D9-9F83-2DF87223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192E41-F614-4471-9834-7F4B2C1E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01B22A-CEDB-4B15-93B9-F851A906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BC9EFD-17B9-4B86-9CB8-DFD79D00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5B0987-82ED-4F83-9DA3-3724E6A1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8F395B-A5BA-4486-8FCD-07E53DFD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6FE002-2B5E-4AF1-87E3-3690C9AB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348C14-0989-4241-9B8F-5F4A8401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E954DE-B0BA-4A36-9B83-FD54027C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6978D4-74D6-44EF-A547-4B2748F8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00078-E936-4A3B-8D65-CB7E7723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4BFA49-C3D3-4BDC-9830-D5B4416F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5C0C28-CCA9-4BD6-AAFC-5CA5D9E0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FF5DDA-5BFF-4F91-8434-F62CD94D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E573-E5AB-40C5-9DEA-A3E638D1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F26CD-72B2-4AEC-830E-DD0F676A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3DD3-BCCF-4D47-B33F-7B29D395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02357-ABB1-48C8-85FD-60C993EC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7EC-B8A4-4570-8426-1118CAD9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A1887-14E5-4123-AFFC-452A49AB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53E0C-A92C-45AF-9F8B-BE57018C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3A61F-A0D0-4811-A9DE-162D81D9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A2066-EB43-4623-BF19-9964BB04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9A185-2697-4EAD-95F1-347AE5C8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A292-0EE3-4AD4-A08B-B4DF0E29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7D040-4F4B-4BEE-84E8-A02A18DA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0E7F9-A44B-4487-8BA5-5692C96E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F62C9-732A-43A6-828C-3E06EB4C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B60E0-8206-446E-B0BF-C1C75E0C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015-00D4-496F-ACBB-2C4DE919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16B3C-26AF-4FFE-91FF-50A33AEE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D3E81-5907-4273-B502-0627ED28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5CDDD-74BE-4BC9-9DA3-04FB3C00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927DE-33C9-469D-A6F7-26E3879F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47C63-7A8C-410F-A233-DAAD4453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B873F-EB1E-4EF9-BF77-7C406B8A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9B321-3290-4AA6-B79E-D9ED1465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39985-BC49-430F-AC66-10138595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49768-391A-4ED5-94AC-E7003A5E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2DAEF-E3B7-4DC6-9DEA-1F36E14C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7C3-0DB0-4718-81FD-C34E2074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E3D08-07EF-4776-A343-73038E1D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0D78C-66DD-4337-A6A9-9A808914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B70A7-2631-4902-BF71-981DFE09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588AB-2ED8-490B-9041-A445444A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B80A5-0FE4-4834-BE07-421F46C6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1024B-2307-43CE-B6B9-A6C02861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2AAFE-6AB0-46B0-BBB1-503A60B1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E0F52-98D5-48FA-ABF5-7AD0573F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5302F-C1AA-4861-87B9-5C88D9F9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3B7DA-C73D-45A4-A416-C2FE1941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C5FA-EB32-46AB-AC9C-D23745BD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58F29-F44C-4E86-9CB6-308B6B20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B8886-653B-4E67-B344-B2B95B1E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B8FB3-6689-49FF-A227-42094B8B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1DC0C-7B9B-48BC-AAC2-26D842C4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E453B-6FC7-4650-919D-DAEC2827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85AD3-558E-4397-A39E-0392B960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826B0-0BB6-48EC-B86E-48E00BDF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F2AD7-82EB-4360-A598-DB9C4083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D7579-A751-47D4-B18F-591C3E90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1CFCF-35F0-4923-BF6F-753A4B5B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34D-9033-4F74-9748-B3885189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05F6E-2F58-4973-816F-83386FB2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3C5E9-27C5-4905-89D6-3CBEBA4B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E35C2-7B1B-4337-999E-F42BEBF3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F3D0C-6B43-4D64-88AA-97097F03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4B454-A4E3-4B31-96D2-75844998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9BBD7-8BC6-4BF9-9945-0B8E4281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5F9E2-BC5F-4CD0-AD1A-EC00FE85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BFBA1-501B-4068-8355-6C47901C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32275-A2F4-4D9E-A4F6-5EFE2F60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106F8-71CB-46AE-A5AB-7FB8E60A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C5C-7EBB-413F-B4D0-D632C8F5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AEBF3-53A0-41CD-A499-D3BB712B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CD515-6FCD-4FE4-B400-0DFF8059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77078-C1B1-48B6-BB38-E89B30DB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B2DCD-680B-47C1-9654-63B2C0D0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F5C9A-2957-4E2C-BDB0-264C54AB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6F390-24F6-4233-851F-78869CC9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7E30F-B939-4CA1-9CD6-817814E6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6AD69-B1EC-4027-879C-E66ABD75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948E2-2068-497F-A95F-606130D3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5BCC5-00C0-45BA-A848-BF17BE40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90A-E2CE-4AB3-9731-21714AD1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187C5-0888-4C95-A1E9-3852C183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BA305-1F14-4331-8F09-8E2D63AE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DD4CA-D022-4D9A-B6C9-5FD7DA01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4DEFF-81B5-438B-9EDD-011A938C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37A17-77B0-4849-A744-52F02479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4AA74-406C-49D5-9884-3960871E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F8654-180F-4C14-B28A-C44CD996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05CB2-E4D7-42A8-8C33-EEB6B0DD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460B4-922B-47B1-9B8D-D88DF408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79226-1BAE-47B8-8FCB-9B61221D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2F1E-29EE-4A7E-B988-B70A8747EB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A0D0-77CC-4448-B3FE-1D1B30DAC1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0BDA-0940-43B6-B7BB-4E484E63C2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5707-A236-4508-A934-1733559F52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002E-23F2-41CF-B106-904F2DDC88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BBDB-80D8-4740-8F9B-C28BC92362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4EC1-3B5B-4B4F-A5F1-B11802D734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0119-7653-48A6-8861-01EDA9042E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6A52-F7AA-4695-971C-9CCE536E7F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E5B7-7F4C-4FDE-AE0C-9E2C5A75C2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3003-8BE6-466B-B095-02F339B198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3DE0-699B-4A24-9A17-CB8631B740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8695-2ABE-4C46-8C31-B91D7D002C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AD47-AF31-4E18-9BAF-A7E53CED91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089A-5ED3-47B0-9EC5-B9C7EAB5D4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B01E-9AD9-4CCA-A04C-AA3705BAC2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4A2E-65B5-42DE-B858-23BC76D68F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A16D-B722-4EE3-AE85-AE231480DC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4709-06D7-4B20-8238-9872625FF5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3080-E457-430F-A094-DBD5B0389D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D5C7-60E0-4995-9ECD-93C255C90F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E73E-ADC6-41CB-9790-1FC52BB38F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A4D1-760F-460F-AFFB-534A337A35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CAF7-E921-4DE2-8766-544B2D0786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4494-A5D2-4F0F-8DF8-DFCC3405D1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B6E3-7343-449E-8B48-7146CEFE0D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66F1-4E97-413D-9B70-5C314FD17E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1701-7E63-4785-8F63-7732A12FCF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4B45-F94D-4202-B39F-EE70C5B61F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A83F-73D7-48DF-B778-AD7EC0FD30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7731-B89C-4C90-9766-25D5E8C114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A829-8065-4988-8670-D0C7C17CE5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79FD-863C-47B2-8D9F-7655643CC2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4C6F-3CEA-4458-95A7-6351C909C6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6416-B707-4062-8D5B-CD6E825CB2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342F-A0DC-4650-8F2B-E9080CD733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067C-58F2-4AAC-B6A5-37D9D56285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0028-E622-4D63-A609-D94E374150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A86D-639D-4AC5-9CD4-350809597C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F99A-767B-4162-B816-4A1044CE08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67160" y="3205080"/>
            <a:ext cx="40096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19160" y="795240"/>
            <a:ext cx="8905680" cy="5267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476360" y="2852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059280" y="2843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691160" y="2843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012000" y="2852640"/>
            <a:ext cx="64764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740720" y="284328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195640" y="364500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435640" y="362592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3276720" y="399564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3635280" y="433692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308720" y="430200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8317080" y="509436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8317080" y="543564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8317080" y="5772240"/>
            <a:ext cx="360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9410" descr=""/>
          <p:cNvPicPr/>
          <p:nvPr/>
        </p:nvPicPr>
        <p:blipFill>
          <a:blip r:embed="rId1"/>
          <a:stretch/>
        </p:blipFill>
        <p:spPr>
          <a:xfrm>
            <a:off x="1038240" y="1419120"/>
            <a:ext cx="7067520" cy="4019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619280" y="3213000"/>
            <a:ext cx="460836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1476360" y="3554280"/>
            <a:ext cx="460836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1187280" y="4446720"/>
            <a:ext cx="460872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1258920" y="4807080"/>
            <a:ext cx="460836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1258920" y="5148360"/>
            <a:ext cx="4608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8373" descr=""/>
          <p:cNvPicPr/>
          <p:nvPr/>
        </p:nvPicPr>
        <p:blipFill>
          <a:blip r:embed="rId1"/>
          <a:stretch/>
        </p:blipFill>
        <p:spPr>
          <a:xfrm>
            <a:off x="923760" y="2038320"/>
            <a:ext cx="7296480" cy="27813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4356000" y="43308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6732720" y="4356000"/>
            <a:ext cx="288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14:31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